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5th%20Grader%20Short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A2BB-ABD0-4007-B6F3-CB995C12E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E8E8-C949-4124-A80D-A81F129F75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4C23-A4F6-4EAE-AF15-E8E4B8EC63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83C5-B57F-45D7-B330-B7023D3926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26F6-5E6B-4A5E-93A7-3772327D14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373A-5377-4219-8CB4-41CA991233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5414-72C9-4BB5-BB36-BCA2721612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BEED-BDA3-45B1-A94D-BE35BE339F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53B1-6E61-4205-AA97-472F473538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979B-FBA5-4FEA-9E1F-03353C6389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FDDA-0421-49BC-A06D-2C2D682472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592E-A49C-466A-A39A-7BCB6A91AB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6E75-99F5-4BAD-B1F4-8A4BD52312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2D9E-D493-4ACD-9CA7-2592ADC241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48EF-F8BA-4BBC-B9D6-390AC296A2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6A78-BF93-4A3D-B3D2-F3AC0F5C07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33A5-05D6-41B5-A3EA-B15AE8C9B2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141E-17BB-40D9-ACEE-1CAC7DA629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26C6-9391-449E-9778-CEA7559A2C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285E-C73C-4F6A-BAA1-417F417C9B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97F2-EEFA-4374-9DDC-EBC0B774CD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7E1F-C130-46B8-B8F2-2D2174113D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A00F-E67F-4E05-86D0-3AC876CED6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F91E-DC03-4B92-AE0B-5942851D7C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9B5A-ADCA-4F23-BE54-A21BAEB024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5A12-3D27-4F3A-9DEA-040211570E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A06B-754A-49D8-94FA-225A6274B2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B9FA-3E20-4199-BA2E-0FC6A1A1B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193E-9FBC-48D6-ABC2-4E6986B6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BB40-6AFE-4190-BC6F-37A1C7326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E51C-2A07-436C-9D4B-1A0D8FC99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9F5B-4908-49EB-B4C0-059A987C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5C3C-CFE7-4ECB-A99F-9B709F30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6D41-D0C6-4C9A-B531-996F8079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4CBE-B45F-4817-81D0-09A3D36F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1DB7-3691-4AC8-AC2A-8F1EA573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BEA4-4A8F-4023-9A1F-4568D8D6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315A-E6DA-493D-B5E1-F305A928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0286-3A5D-42D7-B0CE-F315A2E1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66000"/>
          </a:bodyPr>
          <a:p>
            <a:pPr marL="226080" indent="-226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90320" indent="-1886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754200" indent="-15084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055880" indent="-15084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357560" indent="-15084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7A92-5BF8-4A3F-BB3F-2ADC8E4284F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5th%20Grader%20Shor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" Target="slide17.xml"/><Relationship Id="rId10" Type="http://schemas.openxmlformats.org/officeDocument/2006/relationships/slide" Target="slide19.xml"/><Relationship Id="rId11" Type="http://schemas.openxmlformats.org/officeDocument/2006/relationships/slide" Target="slide21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slide" Target="slide2.xml"/><Relationship Id="rId21" Type="http://schemas.openxmlformats.org/officeDocument/2006/relationships/slide" Target="slide2.xml"/><Relationship Id="rId22" Type="http://schemas.openxmlformats.org/officeDocument/2006/relationships/slide" Target="slide2.xml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5th%20Grader%20Shor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re You Smar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an a 5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5thGrader"/>
          <p:cNvPicPr/>
          <p:nvPr/>
        </p:nvPicPr>
        <p:blipFill>
          <a:blip r:embed="rId1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4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AutoShape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6">
            <a:hlinkClick r:id="rId2" action="ppaction://hlinksldjump"/>
          </p:cNvPr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44280 w 1218960"/>
              <a:gd name="textAreaRight" fmla="*/ 1174680 w 1218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6984" y="1400"/>
                </a:lnTo>
                <a:lnTo>
                  <a:pt x="1400" y="14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6984" y="20200"/>
                </a:lnTo>
                <a:lnTo>
                  <a:pt x="36984" y="14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4" y="202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5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5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AutoShape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6">
            <a:hlinkClick r:id="rId2" action="ppaction://hlinksldjump"/>
          </p:cNvPr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44280 w 1218960"/>
              <a:gd name="textAreaRight" fmla="*/ 1174680 w 1218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6984" y="1400"/>
                </a:lnTo>
                <a:lnTo>
                  <a:pt x="1400" y="14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6984" y="20200"/>
                </a:lnTo>
                <a:lnTo>
                  <a:pt x="36984" y="14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4" y="202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6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6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AutoShape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7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7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44280 w 1218960"/>
              <a:gd name="textAreaRight" fmla="*/ 1174680 w 1218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6984" y="1400"/>
                </a:lnTo>
                <a:lnTo>
                  <a:pt x="1400" y="14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6984" y="20200"/>
                </a:lnTo>
                <a:lnTo>
                  <a:pt x="36984" y="14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4" y="202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8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8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44280 w 1218960"/>
              <a:gd name="textAreaRight" fmla="*/ 1174680 w 1218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6984" y="1400"/>
                </a:lnTo>
                <a:lnTo>
                  <a:pt x="1400" y="14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6984" y="20200"/>
                </a:lnTo>
                <a:lnTo>
                  <a:pt x="36984" y="14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4" y="202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9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500"/>
            </a:gs>
            <a:gs pos="50000">
              <a:srgbClr val="408000"/>
            </a:gs>
            <a:gs pos="100000">
              <a:srgbClr val="030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e You Smarter Than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76320" y="228600"/>
            <a:ext cx="1600200" cy="457200"/>
          </a:xfrm>
          <a:prstGeom prst="rect">
            <a:avLst/>
          </a:prstGeom>
          <a:solidFill>
            <a:srgbClr val="0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1,0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1676520" y="16765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5th Grade Topic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5410080" y="16765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5th Grade Topic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1676520" y="264780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4th Grade Topic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5410080" y="264780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4th Grade Topic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1676520" y="361944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3rd Grade Topic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5410080" y="361944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3rd Grade Topic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1676520" y="459108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2nd Grade Topic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5410080" y="459108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2nd Grade Topic 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14"/>
          <p:cNvSpPr/>
          <p:nvPr/>
        </p:nvSpPr>
        <p:spPr>
          <a:xfrm>
            <a:off x="1676520" y="55627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1st Grade Topic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15"/>
          <p:cNvSpPr/>
          <p:nvPr/>
        </p:nvSpPr>
        <p:spPr>
          <a:xfrm>
            <a:off x="5410080" y="55627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1st Grade Topic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165240" y="80028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21"/>
          <p:cNvSpPr/>
          <p:nvPr/>
        </p:nvSpPr>
        <p:spPr>
          <a:xfrm>
            <a:off x="152280" y="13874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3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22"/>
          <p:cNvSpPr/>
          <p:nvPr/>
        </p:nvSpPr>
        <p:spPr>
          <a:xfrm>
            <a:off x="152280" y="197316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17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3"/>
          <p:cNvSpPr/>
          <p:nvPr/>
        </p:nvSpPr>
        <p:spPr>
          <a:xfrm>
            <a:off x="152280" y="25606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1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24"/>
          <p:cNvSpPr/>
          <p:nvPr/>
        </p:nvSpPr>
        <p:spPr>
          <a:xfrm>
            <a:off x="152280" y="31478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6" action="ppaction://hlinksldjump"/>
              </a:rPr>
              <a:t>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25"/>
          <p:cNvSpPr/>
          <p:nvPr/>
        </p:nvSpPr>
        <p:spPr>
          <a:xfrm>
            <a:off x="152280" y="373392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152280" y="43210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8" action="ppaction://hlinksldjump"/>
              </a:rPr>
              <a:t>1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27"/>
          <p:cNvSpPr/>
          <p:nvPr/>
        </p:nvSpPr>
        <p:spPr>
          <a:xfrm>
            <a:off x="152280" y="490680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9" action="ppaction://hlinksldjump"/>
              </a:rPr>
              <a:t>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28"/>
          <p:cNvSpPr/>
          <p:nvPr/>
        </p:nvSpPr>
        <p:spPr>
          <a:xfrm>
            <a:off x="152280" y="549432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0" action="ppaction://hlinksldjump"/>
              </a:rPr>
              <a:t>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9">
            <a:hlinkClick r:id="rId21" action="ppaction://hlinksldjump"/>
          </p:cNvPr>
          <p:cNvSpPr/>
          <p:nvPr/>
        </p:nvSpPr>
        <p:spPr>
          <a:xfrm>
            <a:off x="152280" y="608184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2" action="ppaction://hlinksldjump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9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44280 w 1218960"/>
              <a:gd name="textAreaRight" fmla="*/ 1174680 w 1218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6984" y="1400"/>
                </a:lnTo>
                <a:lnTo>
                  <a:pt x="1400" y="14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6984" y="20200"/>
                </a:lnTo>
                <a:lnTo>
                  <a:pt x="36984" y="14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4" y="202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1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1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44280 w 1218960"/>
              <a:gd name="textAreaRight" fmla="*/ 1174680 w 1218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6984" y="1400"/>
                </a:lnTo>
                <a:lnTo>
                  <a:pt x="1400" y="14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6984" y="20200"/>
                </a:lnTo>
                <a:lnTo>
                  <a:pt x="36984" y="14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4" y="202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illion Dollar Questio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Grade Level Topic 1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44280 w 1218960"/>
              <a:gd name="textAreaRight" fmla="*/ 1174680 w 1218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6984" y="1400"/>
                </a:lnTo>
                <a:lnTo>
                  <a:pt x="1400" y="14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6984" y="20200"/>
                </a:lnTo>
                <a:lnTo>
                  <a:pt x="36984" y="14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4" y="202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s for Playing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6" descr="5thGrader"/>
          <p:cNvPicPr/>
          <p:nvPr/>
        </p:nvPicPr>
        <p:blipFill>
          <a:blip r:embed="rId1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1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AutoShape 7">
            <a:hlinkClick r:id="rId1" action="ppaction://hlinksldjump"/>
          </p:cNvPr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44280 w 1218960"/>
              <a:gd name="textAreaRight" fmla="*/ 1174680 w 1218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6984" y="1400"/>
                </a:lnTo>
                <a:lnTo>
                  <a:pt x="1400" y="14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6984" y="20200"/>
                </a:lnTo>
                <a:lnTo>
                  <a:pt x="36984" y="14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4" y="202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2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AutoShape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6">
            <a:hlinkClick r:id="rId2" action="ppaction://hlinksldjump"/>
          </p:cNvPr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44280 w 1218960"/>
              <a:gd name="textAreaRight" fmla="*/ 1174680 w 1218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6984" y="1400"/>
                </a:lnTo>
                <a:lnTo>
                  <a:pt x="1400" y="14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6984" y="20200"/>
                </a:lnTo>
                <a:lnTo>
                  <a:pt x="36984" y="14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4" y="202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3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3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AutoShape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6">
            <a:hlinkClick r:id="rId2" action="ppaction://hlinksldjump"/>
          </p:cNvPr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44280 w 1218960"/>
              <a:gd name="textAreaRight" fmla="*/ 1174680 w 1218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6984" y="1400"/>
                </a:lnTo>
                <a:lnTo>
                  <a:pt x="1400" y="14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6984" y="20200"/>
                </a:lnTo>
                <a:lnTo>
                  <a:pt x="36984" y="14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4" y="202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4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20:28:24Z</dcterms:created>
  <dc:creator>Gary Bodenschatz</dc:creator>
  <dc:description/>
  <dc:language>en-US</dc:language>
  <cp:lastModifiedBy>Owner</cp:lastModifiedBy>
  <dcterms:modified xsi:type="dcterms:W3CDTF">2010-02-18T05:00:27Z</dcterms:modified>
  <cp:revision>21</cp:revision>
  <dc:subject/>
  <dc:title>Are You Smarter  Than a 5th Grader?</dc:title>
</cp:coreProperties>
</file>